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9E7-A626-4263-8981-03BFDE35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EE4-62B9-4AE3-B906-D291CAF8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CBA-39A4-4607-8CE9-C18415F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34C-0B37-48B1-9603-E32E4D3F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4A8-125F-4007-BFCD-32C3FAA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DAD-6C43-4BEA-A244-DF7BCC07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848-1325-48FA-989D-E298CF44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48E-BE70-49DB-BFB0-74A731D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416-7EA8-4DB6-A873-7515D7A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D66-393D-451E-8661-E2015F50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0B3-F209-4EA7-8792-D6CAE89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235-8C63-4592-A22D-5F0F8FE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5237-BCCF-46CA-850C-314031BB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rbanlegends.about.com/library/n_saddam_capture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topics.cnn.com/topics/Iraq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3720" y="5714640"/>
            <a:ext cx="579132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an AND 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IR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nytimes.com/2005/08/16/international/middleeast/16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geography.about.com/b/2007/05/08/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life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expectancy-in-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s://www.cia.gov/library/publications/the-world-factbook/print/iz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worldinfozone.com/country.php?country=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ocation: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andforms: desert, Som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ater systems: U.S., some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Natural Resources: Oil,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mate: Dry, Hot, and 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ildlife: Bugs, Birds, and 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481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ik Humam Hamoudi, chairman of the constitutional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i Izara al-Majoun of the United Iraqi Alli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990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expecta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= 6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133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= 28,221,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pture of Saddam Husse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istory and 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70368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metime in 2003 we invade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cember 13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2003: Saddams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438280"/>
            <a:ext cx="4419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AGHDAD, Iraq (CNN) -- A roadside bomb attack on Monday killed two U.S. soldiers in Baghdad, the U.S. military sai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nother soldier was wounded in the attack and taken to a combat support hospital, according to military spokesman Lt. David Russ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e deaths follow an incident Saturday in which a U.S. soldier died and two others were injured when their vehicle rolled over at a forward operating base near Balad, north of Baghdad, Russell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July marked the lowest monthly toll of the war, with 11 U.S. troop deaths -- six killed in hostilities and five dying from causes not related to combat, according to a CNN count of figures released by the Penta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With the three deaths in August, 4,130 U.S. military personnel have died since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raq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war began in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" cy="1219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conomy in Ir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ustry: Oil an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ajor Exports: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rrency: D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Clothes: they were same clothes as us just some aren’t our brand like hollister. Some women and men are fully covered in 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Foods: Soups and stews are prepared with vegetables and meat. Beef, lamb, poultry, and fish are eaten with rice and vegetables: aubergines, beans, chickpeas, lentils, okra, onions, peppers, potatoes and toma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 c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anguage: Arabic is the main language. Kurdish is the official language in the Kurdish regions of Iraq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Religion: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rchitecture/Building styles: Shanas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ourist Attractions: Saddams hiding place, since capture this place is bang’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istorical Places: The Umayyad Mosque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he first ever in the city, built in 640 AD by Utba bin Farqad Al-Salami after he conquered Mosul in the reign of Caliph Omar ibn Al-Khattab. The only part still extant is the remarkably elaborate brickwork 52 m high minaret that leans like the Tower of Pisa, called Al-Hadba (The Humped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0:05Z</dcterms:created>
  <dc:creator>ethanrlawson</dc:creator>
  <dc:description/>
  <dc:language>en-US</dc:language>
  <cp:lastModifiedBy>ethanrlawson</cp:lastModifiedBy>
  <dcterms:modified xsi:type="dcterms:W3CDTF">2009-03-04T16:22:16Z</dcterms:modified>
  <cp:revision>8</cp:revision>
  <dc:subject/>
  <dc:title>Ethan AND Andy</dc:title>
</cp:coreProperties>
</file>